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401AA-694B-46E8-9F00-5F00F418D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9074C-F86F-4509-AD74-21E0CDC60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C39AB-0D30-4CDD-B51B-6074B6F3A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BB86C-87E1-48CA-AAB2-B9476BBEF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EAB69-83B9-4702-BECA-4EF173B70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63999-3015-43EF-9986-79BC14CD9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2C310-923C-4911-918A-032E25239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25D50-FA09-40FD-924B-587986DFC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1E742-EDC6-4828-90FA-0A24E31DB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072EC-B2FF-401D-A077-3C8631721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CCF0A-51E1-4D27-AE31-514687345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07A84-17BD-4F00-BB02-70B7B2C76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549B3-6061-408C-B417-C5C18E86EEFC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hap 8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Naming Binary Compound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Binary Ionic Compound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ontain 2 different element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Name the metal first, then the nonmetal as 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-ide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Use name of a metal with a fixed charg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Groups 1, 2, and 13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Examples: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6002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NaCl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dium chlorid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6002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aBr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alcium bromid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6002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l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luminum oxid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8076960" cy="1143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Learning Check N1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omplete the names of the following binary compounds: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Na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dium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________________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KBr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potassium________________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l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luminum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________________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MgS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_________________________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8076960" cy="1143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olution N1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omplete the names of the following binary compounds: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Na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dium 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nitrid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KBr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potassium 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bromid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l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luminum 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oxid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MgS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magnesium sulfid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1143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Naming Binary Covalent Compounds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920" y="1752120"/>
            <a:ext cx="8534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Two nonmetals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SzPct val="11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Name each element 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SzPct val="11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End the last element in -ide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SzPct val="11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Add prefixes to show more than 1 atom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Prefixes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mon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1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penta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5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di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hexa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6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tri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hepta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7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tetra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4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octa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8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28800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1143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Learning Check N4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4920" y="1752120"/>
            <a:ext cx="8534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CO 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carbon ______oxide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CO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carbon _______________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PCl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phosphorus _______chloride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CCl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carbon  ________chloride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_____nitrogen  _____oxide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1143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olution N4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920" y="1752120"/>
            <a:ext cx="8534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CO  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carbon </a:t>
            </a:r>
            <a:r>
              <a:rPr b="1" lang="en-US" sz="3000" spc="-1" strike="noStrike">
                <a:solidFill>
                  <a:srgbClr val="66ff33"/>
                </a:solidFill>
                <a:latin typeface="Arial"/>
              </a:rPr>
              <a:t>mon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oxide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CO</a:t>
            </a:r>
            <a:r>
              <a:rPr b="1" lang="en-US" sz="3000" spc="-1" strike="noStrike" baseline="-25000">
                <a:solidFill>
                  <a:srgbClr val="ff99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carbon </a:t>
            </a:r>
            <a:r>
              <a:rPr b="1" lang="en-US" sz="3000" spc="-1" strike="noStrike">
                <a:solidFill>
                  <a:srgbClr val="66ff33"/>
                </a:solidFill>
                <a:latin typeface="Arial"/>
              </a:rPr>
              <a:t>di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oxide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PCl</a:t>
            </a:r>
            <a:r>
              <a:rPr b="1" lang="en-US" sz="3000" spc="-1" strike="noStrike" baseline="-25000">
                <a:solidFill>
                  <a:srgbClr val="ff9900"/>
                </a:solidFill>
                <a:latin typeface="Arial"/>
              </a:rPr>
              <a:t>3</a:t>
            </a:r>
            <a:r>
              <a:rPr b="1" lang="en-US" sz="3000" spc="-1" strike="noStrike" baseline="-25000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 baseline="-25000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phosphorus </a:t>
            </a:r>
            <a:r>
              <a:rPr b="1" lang="en-US" sz="3000" spc="-1" strike="noStrike">
                <a:solidFill>
                  <a:srgbClr val="66ff33"/>
                </a:solidFill>
                <a:latin typeface="Arial"/>
              </a:rPr>
              <a:t>tri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chloride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CCl</a:t>
            </a:r>
            <a:r>
              <a:rPr b="1" lang="en-US" sz="3000" spc="-1" strike="noStrike" baseline="-25000">
                <a:solidFill>
                  <a:srgbClr val="ff9900"/>
                </a:solidFill>
                <a:latin typeface="Arial"/>
              </a:rPr>
              <a:t>4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carbon </a:t>
            </a:r>
            <a:r>
              <a:rPr b="1" lang="en-US" sz="3000" spc="-1" strike="noStrike">
                <a:solidFill>
                  <a:srgbClr val="66ff33"/>
                </a:solidFill>
                <a:latin typeface="Arial"/>
              </a:rPr>
              <a:t>tetra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chloride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N</a:t>
            </a:r>
            <a:r>
              <a:rPr b="1" lang="en-US" sz="3000" spc="-1" strike="noStrike" baseline="-25000">
                <a:solidFill>
                  <a:srgbClr val="ff99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O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di</a:t>
            </a:r>
            <a:r>
              <a:rPr b="1" lang="en-US" sz="3000" spc="-1" strike="noStrike">
                <a:solidFill>
                  <a:srgbClr val="66ff33"/>
                </a:solidFill>
                <a:latin typeface="Arial"/>
              </a:rPr>
              <a:t>nitrogen mon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oxide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Learning Check N5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P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5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1)  phosphorus oxid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2)  phosphorus pentoxid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3)  diphosphorus pentoxid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7</a:t>
            </a:r>
            <a:r>
              <a:rPr b="1" lang="en-US" sz="2800" spc="-1" strike="noStrike" baseline="-25000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 baseline="-25000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1)  dichlorine  heptoxid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2)  dichlorine oxid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3)  chlorine heptoxide 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. 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1)  chlorine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2)  dichlorine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3)  dichlorid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olution N5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P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5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3)  diphosphorus pentoxid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7</a:t>
            </a:r>
            <a:r>
              <a:rPr b="1" lang="en-US" sz="2800" spc="-1" strike="noStrike" baseline="-25000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 baseline="-25000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1)  dichlorine  heptoxid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. 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1)  chlorine gas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7T00:29:42Z</dcterms:created>
  <dc:creator>Timberlake</dc:creator>
  <dc:description/>
  <dc:language>en-US</dc:language>
  <cp:lastModifiedBy>Owner</cp:lastModifiedBy>
  <dcterms:modified xsi:type="dcterms:W3CDTF">2012-03-20T03:32:39Z</dcterms:modified>
  <cp:revision>4</cp:revision>
  <dc:subject/>
  <dc:title>Chap 8</dc:title>
</cp:coreProperties>
</file>